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538-D627-422F-B424-A6786C01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A8C-C1DD-44BE-9D45-BCC5F09D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AF6-4B0A-4E75-B34A-E4612E30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709-0632-428E-9D63-539B4B2F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8793-9A43-4DAF-AA98-F9DB02DF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DA7D-1B33-4616-87ED-E8B9DD58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103D-9F14-4345-BB69-B53F2D8A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BEAD-DBD0-4F41-9423-BE8134F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595-DB6B-4EEC-9E38-F54B3AEF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6A31-08CF-4CFB-8812-E7340B1A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4705-BE4A-4C07-9AAE-F3DCD6A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3D9-8E1E-4239-9955-C0490347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707D-A701-421A-9BBB-28CD2B72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929B-FC76-4D00-80F8-3ADBE75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A20E-760C-4D0C-8ACF-CA588990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2903-AA28-490B-BFBE-9EA47147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37D1-512F-4288-89D9-90326C44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A81-E732-466D-B5E7-DEA7FB01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30C-0A36-4C6A-A2B9-83ABF66E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648-7142-4941-BF72-1EF25D85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FA1-AF6D-4FED-AFBA-2B3321BD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2B6-1AFB-4E29-AB84-8F469190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A6F-DF49-4796-8DDF-D05EA1A4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372-9E6F-4BCE-944B-25C27FF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EC4D-AE3A-43EC-9922-D7D1D9E0C7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0732-E249-4A36-95D6-0628739184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La Cas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By: Maggie Camp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garaje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Mi garaje es frío y grande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15400" cy="503568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Mi casa es bonita y bella.</a:t>
            </a:r>
            <a:r>
              <a:rPr b="0" lang="en-US" sz="1600" spc="-1" strike="noStrike">
                <a:solidFill>
                  <a:srgbClr val="ffffcc"/>
                </a:solidFill>
                <a:latin typeface="Curlz MT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urlz MT"/>
              </a:rPr>
              <a:t>La Cocina</a:t>
            </a:r>
            <a:br>
              <a:rPr sz="44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La cocina es nueva y estupenda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29560" cy="48816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Comedor</a:t>
            </a:r>
            <a:br>
              <a:rPr sz="4000"/>
            </a:br>
            <a:r>
              <a:rPr b="0" lang="en-US" sz="2000" spc="-1" strike="noStrike">
                <a:solidFill>
                  <a:srgbClr val="ffffcc"/>
                </a:solidFill>
                <a:latin typeface="Curlz MT"/>
              </a:rPr>
              <a:t>Mi comedor es magnífico y increible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49896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Una sala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Una casa es estupenda y fabulosa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53532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Ba</a:t>
            </a:r>
            <a:r>
              <a:rPr b="0" lang="en-US" sz="4000" spc="-1" strike="noStrike">
                <a:solidFill>
                  <a:srgbClr val="ffffcc"/>
                </a:solidFill>
                <a:latin typeface="Curlz MT"/>
                <a:ea typeface="Tahoma"/>
              </a:rPr>
              <a:t>ñ</a:t>
            </a: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o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El baño es lujosa y bonita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467840" cy="49831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Caurdo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El caurdo es bella and viejo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Patio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Mi patio es bonita y pequeña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7200" y="1430280"/>
            <a:ext cx="8153280" cy="54277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urlz MT"/>
              </a:rPr>
              <a:t>El jardin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Curlz MT"/>
              </a:rPr>
              <a:t>Mi jardin es bella y impresionante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626160" cy="497052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4:35Z</dcterms:created>
  <dc:creator>campionmag</dc:creator>
  <dc:description/>
  <dc:language>en-US</dc:language>
  <cp:lastModifiedBy>campionmag</cp:lastModifiedBy>
  <dcterms:modified xsi:type="dcterms:W3CDTF">2012-10-25T17:51:28Z</dcterms:modified>
  <cp:revision>6</cp:revision>
  <dc:subject/>
  <dc:title>La Casa By: Maggie Campion</dc:title>
</cp:coreProperties>
</file>